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D0AD-DC75-4552-B4AB-208F933F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AC30-C45C-4EDF-A7AF-3899AFDE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FBD-4B81-4CF4-B4DA-AC139E60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A42-F670-4C9B-A435-B9AF1A56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43F7-392A-4493-9620-60DCE6B3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A84C-0289-460F-8157-285610BD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A3A6-F09E-4F66-8525-4B0B447F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A368-9138-4111-8285-BBADC343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EDD9-AAA9-498D-B2B2-62346ABA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94C7-3775-4000-B766-BF8DE80A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65AA-9FDF-4AAC-89B7-25E557AF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108-8B85-4A18-ABA4-DE9A68C5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B592-A688-43A8-9E90-C01C3379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52AF-6AC0-40BC-AC99-FA6330CF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4440-8AC9-4CBD-8D57-71C47841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996E-6D6B-4B5A-BC08-20F5DF09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6127-7763-44CE-9FE5-7E60539E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E4C-0CA9-4781-87FA-858B9828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138-C30E-4C20-A32C-68A651DE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40B9-C93D-4278-AC14-ABA04263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CE81-214D-4E25-83B7-32B83BB8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CE8-6DC6-473D-AAC6-6EDD2C6A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C8D-C313-4B7D-ABE5-2B76E408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D03-3D56-4B19-8A29-1C35BF2E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90D3-7B61-41D8-8A62-C2E575E85EBC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A722-247C-4BD1-B1F0-BFA8ED271E2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ff66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ometownradio.com/blog/news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38480" y="838080"/>
            <a:ext cx="4724640" cy="4648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mproving Health Conditions at the Farmington Fai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5866920"/>
            <a:ext cx="6400800" cy="685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: Kayleigh Chase, Hattie Laliberte, Rachel Lamblin, and Nyari Patters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358128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2286000" y="1905120"/>
            <a:ext cx="2209680" cy="2895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1905120"/>
            <a:ext cx="2209680" cy="28954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952880"/>
            <a:ext cx="42674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4800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724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1447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ngulation of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6 Step Framework for Program Evalu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gage the Stakehol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cribe the Pro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cus the Evaluation Desig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ather Credible Evid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ustify Conclus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sure Use and Share Lessons Learn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aracteristics of the Common Ground Fai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hibitors with a healthy foc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cal and healthy food vend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akers and demonstrations on topics including physical activity, organic agriculture, and energy efficienc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k r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ources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ig picture: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Verdana"/>
                <a:hlinkClick r:id="rId2"/>
              </a:rPr>
              <a:t>http://hometownradio.com/blog/new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on Ground Fair info: http://www.mofga.org/TheFair/tabid/135/Default.asp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7:40:30Z</dcterms:created>
  <dc:creator>Rachel Lamblin</dc:creator>
  <dc:description/>
  <dc:language>en-US</dc:language>
  <cp:lastModifiedBy>Rachel Lamblin</cp:lastModifiedBy>
  <dcterms:modified xsi:type="dcterms:W3CDTF">2010-12-06T22:24:37Z</dcterms:modified>
  <cp:revision>3</cp:revision>
  <dc:subject/>
  <dc:title>Improving Health Conditions at the Farmington Fair</dc:title>
</cp:coreProperties>
</file>